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BEB-3F89-45CC-8764-BCD9AB16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592-394E-4CE3-A327-2565F2DC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C4F1-1372-4E51-BFDA-A5E35CD1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146-923A-415F-81C7-10C00E3B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9ABF-93D2-473D-B75B-964B54A3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46F0C-201F-4797-ADD9-61373DB9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5F5-37ED-4934-BC54-F406DB424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6D89-3506-45A4-87E2-873B0D1B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0D6E-C587-4D9F-87FA-1DE00DE6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8633-3D5C-44A7-83D3-C79532FF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498E-6E11-4124-A29D-C1824C2C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C39-022B-418C-90BA-E28AC95F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2FC4-E41A-4E1F-8BF0-A82F266A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18DF-7F27-423B-AC9B-4670812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9564-5214-48C8-BA50-45BD92BF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9A54-7546-4DCA-BC11-284424FE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61A3-1EF2-473D-8B95-34878A1C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B7133-2674-4703-B2B0-9A020894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4397A-D2D7-47D7-9AD4-A0E6186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454FD-C322-4A4E-8515-DD66579F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927B2-E2DE-42B3-8DA7-EFE9CD68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A7287-7667-43F2-BBD8-4EFDB2F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1E67-25EF-4FC3-AE7E-BE5919F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DC70D-F338-4C23-B404-EF94E91F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6DA4-4CC0-404F-ABB3-804976C1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9AAAF-0DFC-4159-9F55-17CEF4E3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B18B-4854-43C0-A472-4DBAC7366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A5B38-5B03-4641-A73C-F44CF996B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A39FD-CC03-4DDE-A0E1-BC9BFD7F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566BC-70B1-4D72-B9A4-804F14A92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12550-C138-401A-A804-008352A00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D1916-81B0-4D8B-AF58-E1C07E70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D0A7F-068D-4C84-8AB5-F104963E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D92-473A-4D98-983C-931C01D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83BC1-CB89-418D-BCC7-77816304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0125-35F4-4703-A997-88559E9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0A157-9926-4071-A089-2599258B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AEDB0-6C5E-47F8-AE81-1FB2BED9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E081A-20AC-4277-9F4A-A7BB046A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A6483-210A-4542-BA77-6EA050C7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96500-2942-4854-8DD3-1208B830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9AEF-2736-4DB2-A9BD-65578A6E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624C5-4A06-4A28-AC27-B702746D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B194-52F7-437E-8FC4-19AF2430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76A3-2814-461A-876A-775F3FE3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AA6FB-95A2-4BCE-9EDC-84AD28952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20A02-F0C7-40AC-A906-984A5BD5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4798-AD5C-469C-9C7E-167E2BA12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B6330-83C4-42C9-A373-7C22194C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CB4F-E0F2-45D4-AED0-8D92839D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C715-505D-412C-B58E-E0CF9A4E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A4764-EFFC-4D0F-9FDE-C099BE6B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356DE-C066-49BA-94F1-035336902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8C647-018B-4337-90DA-06243D01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1566B-CD85-4321-9B07-4F98C846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DAF-8FFE-40F6-8A05-05FF29E7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D7B5F-ED67-40FC-B7B7-208D2B7D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5E13D-1DE0-4A00-8FEB-732C50FE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4E3D1-214F-4CF2-AC4B-4F059D7F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D79AF-24FB-42AD-978B-2F9668F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43120-5E84-43A4-AD81-57642D5D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4AD11-F232-4B36-88DF-54569DA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6A8C-2C22-45A2-A768-F8782A36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5E9A9-BCC5-4BA6-A3A6-1614D81E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E2BAE-97B5-44BD-88C4-3FF98968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24934-2997-4857-9163-C2B152ED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AFE7-DE0A-4811-9D7B-A2327198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4D2C7-E5E5-4592-86F1-BF07F7B41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8A533B-FB9A-4909-8625-A358AF2F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5110C-C309-4C27-9B88-5D19F56D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F84CE-5B0E-44D0-A5AD-86C3FB9DA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A1EEA-142C-44B8-867A-F118C455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5A26-038A-40B2-8F9B-28A4176D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D231A-BD3F-4E27-9B7D-E7489E12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FBAA-074C-4C42-A700-62990E33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89E40-54F5-47ED-A7CD-864594D3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3958B-4FE8-43AF-B2C9-EF1A1D00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59F7-3508-432D-A738-6D4C8DD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2D75B-0CB7-4332-95A5-5802FE40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2590-E17E-405F-8E42-1B204359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CC05A-814B-4291-84F0-99586217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7E92F1-89D2-4648-8A62-0F8341A2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28107-2864-4E35-B9FB-0F8A8B0F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FA03-97D9-4D82-A08E-71C065E1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58A63C-BFC0-4A39-9016-01E414382E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0318C7-EE03-4BC9-B26E-504FECE30C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86ABB-D4CC-4FFA-92A7-6237B2EAC28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18B1E-FBB6-4999-B6F7-D8E8CD97D8B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8D243-94E3-4C5C-A1E3-F49963447EB5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A24264-ACF2-45B9-8BCE-48E35B897FE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74AA3-6F56-4C2F-8FF3-18C93E94D3E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ITEC 3200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825120" y="44557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44068"/>
                </a:solidFill>
                <a:latin typeface="Calibri Light"/>
              </a:rPr>
              <a:t>INTRODUCTION TO DATABASE SYSTEMS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344068"/>
                </a:solidFill>
                <a:latin typeface="Calibri Light"/>
              </a:rPr>
              <a:t>LESSON 1</a:t>
            </a:r>
            <a:endParaRPr b="0" lang="en-US" sz="31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 of relationships: 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Henry’s bookstore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branch of the bookstore sells many books.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Books are written by Authors.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oks are published by publisher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809640" y="273204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9"/>
          <p:cNvSpPr/>
          <p:nvPr/>
        </p:nvSpPr>
        <p:spPr>
          <a:xfrm>
            <a:off x="5029200" y="27432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5029200" y="519912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11"/>
          <p:cNvSpPr/>
          <p:nvPr/>
        </p:nvSpPr>
        <p:spPr>
          <a:xfrm>
            <a:off x="5029200" y="30492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02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Entities and relationships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TextBox 16"/>
          <p:cNvSpPr/>
          <p:nvPr/>
        </p:nvSpPr>
        <p:spPr>
          <a:xfrm>
            <a:off x="3127680" y="3124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7"/>
          <p:cNvSpPr/>
          <p:nvPr/>
        </p:nvSpPr>
        <p:spPr>
          <a:xfrm>
            <a:off x="6172200" y="190512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8"/>
          <p:cNvSpPr/>
          <p:nvPr/>
        </p:nvSpPr>
        <p:spPr>
          <a:xfrm>
            <a:off x="6028200" y="44956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traight Connector 2"/>
          <p:cNvSpPr/>
          <p:nvPr/>
        </p:nvSpPr>
        <p:spPr>
          <a:xfrm>
            <a:off x="2562120" y="3189240"/>
            <a:ext cx="2467080" cy="11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traight Connector 14"/>
          <p:cNvSpPr/>
          <p:nvPr/>
        </p:nvSpPr>
        <p:spPr>
          <a:xfrm>
            <a:off x="5905440" y="121932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traight Connector 17"/>
          <p:cNvSpPr/>
          <p:nvPr/>
        </p:nvSpPr>
        <p:spPr>
          <a:xfrm>
            <a:off x="5905440" y="3657600"/>
            <a:ext cx="0" cy="1523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ttribut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Attribute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– property or characteristic of an entity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height, weight, name, address, salary, age, … (attributes of a person)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roperties that are “</a:t>
            </a:r>
            <a:r>
              <a:rPr b="0" lang="en-US" sz="2800" spc="-1" strike="noStrike">
                <a:solidFill>
                  <a:srgbClr val="1cade4"/>
                </a:solidFill>
                <a:latin typeface="Calibri"/>
              </a:rPr>
              <a:t>of interest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” to the particular application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809640" y="2133720"/>
            <a:ext cx="1752480" cy="2133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9"/>
          <p:cNvSpPr/>
          <p:nvPr/>
        </p:nvSpPr>
        <p:spPr>
          <a:xfrm>
            <a:off x="5029200" y="2743200"/>
            <a:ext cx="182880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B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10"/>
          <p:cNvSpPr/>
          <p:nvPr/>
        </p:nvSpPr>
        <p:spPr>
          <a:xfrm>
            <a:off x="5029200" y="4957920"/>
            <a:ext cx="1981080" cy="1384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11"/>
          <p:cNvSpPr/>
          <p:nvPr/>
        </p:nvSpPr>
        <p:spPr>
          <a:xfrm>
            <a:off x="5029200" y="152280"/>
            <a:ext cx="1752480" cy="164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3502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Entities, relationships, and attributes:</a:t>
            </a: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TextBox 16"/>
          <p:cNvSpPr/>
          <p:nvPr/>
        </p:nvSpPr>
        <p:spPr>
          <a:xfrm>
            <a:off x="3127680" y="3124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17"/>
          <p:cNvSpPr/>
          <p:nvPr/>
        </p:nvSpPr>
        <p:spPr>
          <a:xfrm>
            <a:off x="6172200" y="190512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ten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8"/>
          <p:cNvSpPr/>
          <p:nvPr/>
        </p:nvSpPr>
        <p:spPr>
          <a:xfrm>
            <a:off x="5963040" y="418320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Straight Connector 2"/>
          <p:cNvSpPr/>
          <p:nvPr/>
        </p:nvSpPr>
        <p:spPr>
          <a:xfrm>
            <a:off x="2562120" y="3200400"/>
            <a:ext cx="2467080" cy="41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traight Connector 14"/>
          <p:cNvSpPr/>
          <p:nvPr/>
        </p:nvSpPr>
        <p:spPr>
          <a:xfrm>
            <a:off x="5905440" y="1793880"/>
            <a:ext cx="3816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traight Connector 17"/>
          <p:cNvSpPr/>
          <p:nvPr/>
        </p:nvSpPr>
        <p:spPr>
          <a:xfrm>
            <a:off x="5943600" y="4038480"/>
            <a:ext cx="0" cy="94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1"/>
          <p:cNvSpPr/>
          <p:nvPr/>
        </p:nvSpPr>
        <p:spPr>
          <a:xfrm>
            <a:off x="531720" y="4917960"/>
            <a:ext cx="419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is is called a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ntity-Relationship Diagram (ER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traight Connector 19"/>
          <p:cNvSpPr/>
          <p:nvPr/>
        </p:nvSpPr>
        <p:spPr>
          <a:xfrm>
            <a:off x="809640" y="25146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traight Connector 24"/>
          <p:cNvSpPr/>
          <p:nvPr/>
        </p:nvSpPr>
        <p:spPr>
          <a:xfrm>
            <a:off x="5029200" y="8380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traight Connector 26"/>
          <p:cNvSpPr/>
          <p:nvPr/>
        </p:nvSpPr>
        <p:spPr>
          <a:xfrm>
            <a:off x="5029200" y="30481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traight Connector 34"/>
          <p:cNvSpPr/>
          <p:nvPr/>
        </p:nvSpPr>
        <p:spPr>
          <a:xfrm>
            <a:off x="5029200" y="5334120"/>
            <a:ext cx="198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Traditional flat file approach to data processing:  3 separate file sys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914400" y="2286000"/>
            <a:ext cx="213372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609480" y="5029200"/>
            <a:ext cx="243864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 Cir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914400" y="3657600"/>
            <a:ext cx="213372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7"/>
          <p:cNvSpPr/>
          <p:nvPr/>
        </p:nvSpPr>
        <p:spPr>
          <a:xfrm>
            <a:off x="3124080" y="27432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3124080" y="548640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9"/>
          <p:cNvSpPr/>
          <p:nvPr/>
        </p:nvSpPr>
        <p:spPr>
          <a:xfrm>
            <a:off x="3200400" y="4191120"/>
            <a:ext cx="1676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AutoShape 10"/>
          <p:cNvSpPr/>
          <p:nvPr/>
        </p:nvSpPr>
        <p:spPr>
          <a:xfrm>
            <a:off x="4952880" y="22860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AutoShape 11"/>
          <p:cNvSpPr/>
          <p:nvPr/>
        </p:nvSpPr>
        <p:spPr>
          <a:xfrm>
            <a:off x="5029200" y="36036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9e0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utoShape 12"/>
          <p:cNvSpPr/>
          <p:nvPr/>
        </p:nvSpPr>
        <p:spPr>
          <a:xfrm>
            <a:off x="4952880" y="5029200"/>
            <a:ext cx="213372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0" lang="en-US" sz="2400" spc="-1" strike="noStrike">
                <a:solidFill>
                  <a:srgbClr val="d9e0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oblem:  </a:t>
            </a: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 Light"/>
              </a:rPr>
              <a:t>data redundancy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 persons’s name and address is stored in 3 different file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egoe UI Historic"/>
                <a:ea typeface="Segoe UI Historic"/>
              </a:rPr>
              <a:t>Wasted spa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Aft>
                <a:spcPts val="2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</a:t>
            </a:r>
            <a:r>
              <a:rPr b="0" lang="en-US" sz="2400" spc="-1" strike="noStrike">
                <a:solidFill>
                  <a:srgbClr val="000000"/>
                </a:solidFill>
                <a:latin typeface="Segoe UI Historic"/>
                <a:ea typeface="Segoe UI Historic"/>
              </a:rPr>
              <a:t> Inconsistent dat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The solution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DBMS – Database Management System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44068"/>
                </a:solidFill>
                <a:latin typeface="Calibri"/>
              </a:rPr>
              <a:t>Centralized storage system where each data item is stored just once and relationships are accurately represented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DBMS approach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1" name="Rectangle 3"/>
          <p:cNvSpPr/>
          <p:nvPr/>
        </p:nvSpPr>
        <p:spPr>
          <a:xfrm>
            <a:off x="914400" y="2286000"/>
            <a:ext cx="213372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4"/>
          <p:cNvSpPr/>
          <p:nvPr/>
        </p:nvSpPr>
        <p:spPr>
          <a:xfrm>
            <a:off x="641520" y="4991040"/>
            <a:ext cx="243828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ing</a:t>
            </a:r>
            <a:r>
              <a:rPr b="0" lang="en-US" sz="2400" spc="-1" strike="noStrike">
                <a:solidFill>
                  <a:srgbClr val="d9e0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914400" y="3657600"/>
            <a:ext cx="2133720" cy="990720"/>
          </a:xfrm>
          <a:prstGeom prst="rect">
            <a:avLst/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yro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d9e0e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3124080" y="2743200"/>
            <a:ext cx="1676520" cy="0"/>
          </a:xfrm>
          <a:prstGeom prst="line">
            <a:avLst/>
          </a:prstGeom>
          <a:ln w="57240">
            <a:solidFill>
              <a:srgbClr val="d9e0e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7"/>
          <p:cNvSpPr/>
          <p:nvPr/>
        </p:nvSpPr>
        <p:spPr>
          <a:xfrm>
            <a:off x="3124080" y="5486400"/>
            <a:ext cx="1676520" cy="0"/>
          </a:xfrm>
          <a:prstGeom prst="line">
            <a:avLst/>
          </a:prstGeom>
          <a:ln w="57240">
            <a:solidFill>
              <a:srgbClr val="d9e0e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8"/>
          <p:cNvSpPr/>
          <p:nvPr/>
        </p:nvSpPr>
        <p:spPr>
          <a:xfrm>
            <a:off x="3200400" y="4191120"/>
            <a:ext cx="685800" cy="0"/>
          </a:xfrm>
          <a:prstGeom prst="line">
            <a:avLst/>
          </a:prstGeom>
          <a:ln w="57240">
            <a:solidFill>
              <a:srgbClr val="d9e0e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6553080" y="35812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AutoShape 12"/>
          <p:cNvSpPr/>
          <p:nvPr/>
        </p:nvSpPr>
        <p:spPr>
          <a:xfrm>
            <a:off x="4038480" y="3581280"/>
            <a:ext cx="1600200" cy="1067040"/>
          </a:xfrm>
          <a:prstGeom prst="roundRect">
            <a:avLst>
              <a:gd name="adj" fmla="val 16667"/>
            </a:avLst>
          </a:prstGeom>
          <a:solidFill>
            <a:srgbClr val="1cade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715000" y="4114800"/>
            <a:ext cx="685800" cy="0"/>
          </a:xfrm>
          <a:prstGeom prst="line">
            <a:avLst/>
          </a:prstGeom>
          <a:ln w="57240">
            <a:solidFill>
              <a:srgbClr val="d9e0e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14"/>
          <p:cNvSpPr/>
          <p:nvPr/>
        </p:nvSpPr>
        <p:spPr>
          <a:xfrm>
            <a:off x="4800600" y="2743200"/>
            <a:ext cx="0" cy="762120"/>
          </a:xfrm>
          <a:prstGeom prst="line">
            <a:avLst/>
          </a:prstGeom>
          <a:ln w="57240">
            <a:solidFill>
              <a:srgbClr val="d9e0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15"/>
          <p:cNvSpPr/>
          <p:nvPr/>
        </p:nvSpPr>
        <p:spPr>
          <a:xfrm flipV="1">
            <a:off x="4800600" y="4723920"/>
            <a:ext cx="0" cy="762120"/>
          </a:xfrm>
          <a:prstGeom prst="line">
            <a:avLst/>
          </a:prstGeom>
          <a:ln w="57240">
            <a:solidFill>
              <a:srgbClr val="d9e0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itle 21"/>
          <p:cNvSpPr/>
          <p:nvPr/>
        </p:nvSpPr>
        <p:spPr>
          <a:xfrm>
            <a:off x="5753160" y="5054760"/>
            <a:ext cx="3352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44068"/>
                </a:solidFill>
                <a:latin typeface="Calibri Light"/>
              </a:rPr>
              <a:t>Data stored just o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2"/>
          <p:cNvCxnSpPr/>
          <p:nvPr/>
        </p:nvCxnSpPr>
        <p:spPr>
          <a:xfrm flipV="1">
            <a:off x="7429320" y="457128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dvantages of DBMS approach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ting more information from the same amount of dat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re knowledge available quickly and easily (increas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ta may be shared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users in the same organization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manage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Database Administrator (DBA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s decisions about the databas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dvantages (continued)…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 redundanc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one copy of everyth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Integrity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70c0"/>
                </a:solidFill>
                <a:uFillTx/>
                <a:latin typeface="Calibri"/>
              </a:rPr>
              <a:t>Integri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he correctness of the data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:  a social security number must be 9 digi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ed Security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authorized users can view the data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ample:  payroll data viewable by only certain user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How data is organized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bit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-- binary digit.  “1” or “0”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byte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-- storage for a single character.  Usually 8 bit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field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-- collection of characters.  One single data item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record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-- set of related field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Table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-- set of related records.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Database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– software to store and manage a related set of tabl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404040"/>
                </a:solidFill>
                <a:uFillTx/>
                <a:latin typeface="Calibri Light"/>
              </a:rPr>
              <a:t>Disadvantages </a:t>
            </a: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of DBM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ze of the DBM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rge program—takes a lot of storage space and main memo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y require more hardwar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xity of the DBM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BA and other DB personnel require special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rain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isadvantages (continued).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ensive for a large-scale applic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y recurring cos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impact of a failur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ized syste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very from a failure more difficult due to the complexity of the DBM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lational Model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821880" y="1846440"/>
            <a:ext cx="75438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Developed in 1970 b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F. Codd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Most prevalent type of DBMS today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Oracle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QL Server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ySQL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DB2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ostgre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78720" indent="-1803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icrosoft Access is a “personal database” – for use by one person at a time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is a database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A </a:t>
            </a:r>
            <a:r>
              <a:rPr b="1" i="1" lang="en-US" sz="4000" spc="-1" strike="noStrike">
                <a:solidFill>
                  <a:srgbClr val="1d6295"/>
                </a:solidFill>
                <a:latin typeface="Calibri"/>
              </a:rPr>
              <a:t>database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  or </a:t>
            </a:r>
            <a:r>
              <a:rPr b="1" i="1" lang="en-US" sz="4000" spc="-1" strike="noStrike">
                <a:solidFill>
                  <a:srgbClr val="1d6295"/>
                </a:solidFill>
                <a:latin typeface="Calibri"/>
              </a:rPr>
              <a:t>Database Management System (DBMS)</a:t>
            </a:r>
            <a:r>
              <a:rPr b="1" lang="en-US" sz="2800" spc="-1" strike="noStrike">
                <a:solidFill>
                  <a:srgbClr val="1d6295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is software to store and manage large amounts of data. </a:t>
            </a: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urpose of a databas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The purpose of a database is to keep track of large amounts of data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Organize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Store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Retrieve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Search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Enforce Security</a:t>
            </a:r>
            <a:br>
              <a:rPr sz="3000"/>
            </a:br>
            <a:r>
              <a:rPr b="0" lang="en-US" sz="30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 database stores </a:t>
            </a:r>
            <a:br>
              <a:rPr sz="4800"/>
            </a:b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ata about...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Real world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entitie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, their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attribute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, and the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relationship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between those entities.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Terminology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Entity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– a real or abstract object in the real world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: 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person, automobile, book, student enrollment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Like a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noun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– “person, place or thing”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xample: 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Henry’s bookstores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enry owns several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branche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of a bookstore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He needs to organize data about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book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66ff9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authors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66ff9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and</a:t>
            </a:r>
            <a:r>
              <a:rPr b="0" lang="en-US" sz="3200" spc="-1" strike="noStrike">
                <a:solidFill>
                  <a:srgbClr val="66ff99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publisher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838080" y="2666880"/>
            <a:ext cx="175284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029200" y="274320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5029200" y="533412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11"/>
          <p:cNvSpPr/>
          <p:nvPr/>
        </p:nvSpPr>
        <p:spPr>
          <a:xfrm>
            <a:off x="5029200" y="304920"/>
            <a:ext cx="175248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Entities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Relationship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6295"/>
                </a:solidFill>
                <a:latin typeface="Calibri"/>
              </a:rPr>
              <a:t>Relationship</a:t>
            </a:r>
            <a:r>
              <a:rPr b="0" lang="en-US" sz="3200" spc="-1" strike="noStrike">
                <a:solidFill>
                  <a:srgbClr val="404040"/>
                </a:solidFill>
                <a:latin typeface="Calibri"/>
              </a:rPr>
              <a:t> – an association or connection between entities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s</a:t>
            </a:r>
            <a:r>
              <a:rPr b="0" lang="en-US" sz="2800" spc="-1" strike="noStrike">
                <a:solidFill>
                  <a:srgbClr val="66ff99"/>
                </a:solidFill>
                <a:latin typeface="Calibri"/>
              </a:rPr>
              <a:t>:</a:t>
            </a: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professor “teaches” student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A customer “places” order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</a:rPr>
              <a:t>One or more authors “writes” book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22:00:37Z</dcterms:created>
  <dc:creator>Lissa F. Pollacia</dc:creator>
  <dc:description/>
  <dc:language>en-US</dc:language>
  <cp:lastModifiedBy>Lissa Pollacia</cp:lastModifiedBy>
  <dcterms:modified xsi:type="dcterms:W3CDTF">2022-08-09T21:38:31Z</dcterms:modified>
  <cp:revision>74</cp:revision>
  <dc:subject/>
  <dc:title>CIS 32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6015849E4C0BB448AE5C79D2A5B3CE3</vt:lpwstr>
  </property>
</Properties>
</file>